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063-D6FF-4AB3-B69F-1FE776709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DE1-557E-4157-94F5-15F87006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76751-601F-42F3-9BCA-B00AEBAA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6C3DC-8EE7-4093-903E-40CBB65A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DBF30-C75C-4312-853A-6F198198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B1C0C-501A-4DB2-9F1E-D97CC383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44507-0DF6-4007-AF76-ECDC4E62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01B34-C902-4AA4-8169-CF1FDB0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D2B31-2507-4F0B-9D1A-B8076974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CA3F9-9C88-4FA2-9CB6-3BAEAF650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F724F-94DF-49C4-BC08-3CE4451B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A43BF-B82C-41E5-AF7A-7B7182E3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8DDE-8223-48E8-B5C3-0D9E7688E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6C273-E711-48FA-BEAE-DBACFEC4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F54B41-3AE6-459E-91AA-2B677974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7C94B4-04F9-4A11-9623-8F1FE367D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2C9F9-B296-4FA0-BD45-0A74D5E1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A3BA4-C2A1-47DD-B889-349A8BB1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3885C-E3FB-4366-BCC5-200C83B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D8CF3-0F69-4B92-AF55-720FC235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B06C9-D24A-4D55-9A30-FE35CE4B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316F9-3A87-4F74-8138-5C21CFF1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4BEFF-02E7-4485-900A-58E174D4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C60-B858-421E-8C76-45A4E962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F7A49-70D1-427B-8F60-ABE6D618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9A327-7730-45E7-AB0D-39F93E9A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9A211-B636-487B-9F4D-19E6F3DD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ED7A4-DDFF-4176-B379-53975590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E9F75-9513-4D0D-ABC0-45C586E8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3A09C-FED3-4501-BCAD-91448BEE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2CEDF-27FD-4DAE-B8F7-1E1D9A41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C959B-8229-4280-AD96-92F449D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FAE72-DB34-4595-AEF7-BFB3A6AC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FEDB4-DDF3-4601-8C9B-92B8BECC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B092D-DCF4-4BE7-A716-7A2393CA6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41CDD-E096-4110-B9D3-C50B3A68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A5998-6881-4117-B300-826C2D91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41C4B-C1FD-4DAE-B0C1-BF82A4A7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5142F-2FD2-4ACB-8CBD-0CA91DD0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8735F-EB13-4084-AC87-97AEF4C6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65E67-A3C9-4632-9FC6-DFCFABCC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C7918-B714-4E2F-AB6E-3A910934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654BB-CBB3-4623-A0D3-EDCD991D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EB2D6-20B0-413D-A569-6B9B5CA7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41A099-B670-4443-A3BC-96BCE0D4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242E-EDC7-45BC-BBFF-233A6211D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C2DAF5-88A9-4DF6-9EC2-6681B19F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98E564-894A-4919-B7F4-5FC2E61E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9DB972-3D09-402A-8428-557A96FE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F1379C-5515-4749-9740-92BFDDEA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7714A-03FB-4D4A-AFE9-77D1AB41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3D207-62C7-48B8-A086-929D1C14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3B517-A03E-492A-A686-23307B65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4D5C2-9E55-4B99-844F-5DB3840E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9645DD-60DA-4914-9B57-08219C80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A3823-EFCF-4F12-8D2B-8F73FBEF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FD57-AAE8-4A51-9580-01FD483A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B2F78-EFB4-437F-8763-7C241011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C0DF37-47FE-4F61-8D0B-A23B2A9D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9A9CBF-76C4-4CC8-BB83-B3FFEFBC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D75209-FCDC-4CEA-AD96-D3739481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633A7-9387-43BA-AFFB-959FE66C3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0F932-D489-4CEF-911D-89AB5166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6DD36-294A-4536-8718-B8C04BFBE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A4D3E-17E7-4219-8A79-EB43DDA4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4E561-5F00-49E6-BA82-9231FE84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9A08EE-50EA-4A68-B6CC-6816B30AC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5BBA-DFAD-426E-866D-7D75877B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488064-C686-4396-9F1A-B8EBBBE2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4FC96F-C4F6-495B-9FEC-B3BCD063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2BAAD-3A1D-4C94-AFB5-8125B74C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B460BD-4CC7-47AB-A552-28C7C6FA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AFA55-365C-4BBD-B4CF-53377DD0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9087B-7C95-41E2-8779-F66031E7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AE370-FFA3-4515-AB4D-CD12AD97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4CC658-CA35-4AD9-B48C-80C353B2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E4653-4A10-4964-A40E-1C15839B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12BBB-F774-4DEC-B4D2-54BD069D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0988-EA9D-4E80-818F-5068A9D8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252356-E09E-4A93-ABFE-55460C74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EBD5F-D918-4F4B-9EF0-C48E9977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63BB7-BE78-4D59-805F-23994D21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07E29C-0405-436B-A099-885B1AAF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CE70FE-080D-471E-ABEE-0731551C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A3861-4263-43A1-A4F5-305A1CB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B6140-613A-4AD6-ACF6-08432FCB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3D2162-1A9F-4A05-8FC1-9603CDA8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924C4-081D-48CB-BBDD-C3770584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9473CE-B1F0-4294-8807-2174F334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3A81-BAC1-4DB1-866C-091DDF01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9AD553-65FF-4E02-BE14-95A2113E8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4939-D75C-436D-8990-56273011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AED8A-9FEC-4874-98B2-2D7A1DB2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726574-769A-4F76-9747-BF19F4E2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97746F-D6E2-4968-A1C3-FBF03E07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DBDDB8-DBD6-4B4E-8AB5-A3FFB985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CCB570-C12B-4018-BB39-F07746BC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8C2AD-BE82-4357-8D06-E1E85A67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ED3158-2BAA-4930-BF9B-D5FD3969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CB5-9D59-4BCF-BED7-4F3A05C8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3C2C0-7566-46CC-B254-E6B600E6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4D4C4A-B33F-41E1-A0BD-E8190453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18A8A-7984-48BD-B3DC-70FEDFD2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53CE12-B5DA-46C5-9B1E-55059935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C3CA3-1769-4C79-9657-21BDBD49D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9F234-5073-4ACC-A23A-2FD6B109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5A42D2-0C56-4C61-94B6-6EEDA713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35B46-7CE6-4460-A2A3-B61916CD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D123D-A8FE-446A-908C-26DD754A7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80373-D400-42E4-96ED-4F54635A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6086DA-2B45-454C-B253-3E9FA2D3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18A8-B0B3-4EE2-8E87-C65AE54C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8E1587-4C92-480B-BCC4-5E52A4B2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492C5-77B9-4DA9-868D-90B9DA63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05E54A-B128-4603-93A2-5CF3C6C4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3EC231-5B8A-4E9F-9B05-A2944D9A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D78B25-2623-434F-BD44-B6AC5CE2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C3BB93-DE24-4955-A249-4252984C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23E60B-71D4-4FD2-9261-CE9A0745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7CBD25-E944-4F08-9903-170754B45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C4F83-41FC-4461-8E7A-A3903213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F13683-54FA-4F1C-BA44-671F8849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FA78-8553-4A11-9EB7-2F804E31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D6FE06-B009-439C-BFE9-6B17A768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4E9ABB-5E15-4579-A81E-99B6319F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6F784F-BB68-418F-89DD-C4868BED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43D5B-3A3A-4760-A40B-8D6F0E5E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E859D5-A8D5-4820-AADC-ECCD7BDD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9656B4-C809-4574-A358-D667646C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B55673-7F2A-4590-8C7D-D04782A9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A34EB2-1AF5-4E64-9D5F-ECB7EFC31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80AC3B-BC95-464C-A965-07AC99F6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EC3890-4A70-40AB-8101-1F61E748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F749-E727-4332-995D-41D93DA3E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DE9E98-1EAF-42AF-BBA3-E3624F7A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07652E-CC42-4DDC-95DB-C1F785C1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84C0CA-A654-4F0B-B1D2-0996E52C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1F4232-0D3F-42A9-AE17-697C3928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8B1C9A-6E18-4218-A2AE-18721DDD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7A8D7A-FCB1-4FB0-882A-E582AE00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1A370-DCCC-4954-9EC9-7EA09335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62B785-8FA8-4B20-8ABB-3CDDF18F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AAF4E7-4B40-4E65-8F51-D3ED32F1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BDD9CD-9E11-49C1-A569-622D46BD3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A5E9-16F9-4C2C-B410-30A58C17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6EFE33-DC81-45E6-989C-2CD099FF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49DA8D-189D-4E8B-8002-6D23B87E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05185D-D127-4566-BD5F-9052189C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9458C8-F7DF-4E5C-8C52-9CB9CC51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B49CA-0510-4A36-A5BF-FB25BE39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DFE0C4-24DC-46FF-B9E8-C1BDAFBF6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F3F1C1-CEC2-45C2-8F8F-7897629C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B54CAE-F644-4801-81C9-E6238C5B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02EBFF-FE6C-474A-871F-CDA9E926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E08331-72EA-47EB-A55B-493B3448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8FA64-CEDE-4A6D-B147-453FE3AD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787D39-E84A-4B57-9F4C-58053738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21BFD3-1EE7-4C6E-86CC-7EB9C3FE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6FDE49-81AF-4FAD-AC7D-32F59740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0C9032-D239-4696-8359-224A857E2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FDF383-99DF-4236-B9EA-FA4BB8E2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D0821D-CFA8-4790-9212-65D69862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F97100-7FB5-45FE-AC65-A175E2AC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40110B-5DEB-40CB-AB1A-122650AC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F094F3-16FA-4AB8-90D3-1234F437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786434-85BD-45EF-95B9-4E1CA150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77513-5D6C-4B3C-811B-0C5CACE5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41A57C-2CC4-48E3-808C-E9BBE3E7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56762B-DCA1-4EB3-91DD-A6C29773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43BD39-64AB-42F6-A6DD-3D67B783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209271-96EE-40F3-9C7D-D512337E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FE010B-BD22-49B8-BFE1-22FA36B0E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081360-E8F1-4B17-B912-B8D3D075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C21B62-6370-4D95-A6DD-0BF6B0E8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65FB69-8F08-4FF4-A91F-21A6513C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75BACF-DC1E-4837-A5A2-5F89CA0F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12B447-6DB2-4ECE-AA58-B7C340D7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D09C-893C-48D8-89A9-8B242FB5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870039-D7A6-4A9A-B02E-73B9D501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F095B7-6E05-41E0-8FC3-1D0DA8F4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791FEB-59F6-488E-89F3-9172AECA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070090-08CF-4894-B0EC-F78E6B4B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D68CD2-0CB4-44B6-8277-101E64F7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AF93F7-E3C6-43D5-A7C9-471E0CB6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088822-89AF-489B-AAF4-61388603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61818F-2FD6-4926-A19F-C20A7BB6B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4F2CDE-10DC-449F-B0A9-680F4441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0B0B90-CA51-452E-B6F7-04FDF2F9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F7AF5-0889-4D0A-BE9B-7B63F9DB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C0D70A-19A0-446E-95CE-9A481E32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2E081D-69EC-4F2C-9693-AC1AA90F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F75BFB-EFCB-4778-B08C-8CDEC3A9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A72806-F6E3-4E8A-8E7E-EAEA5B5A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77F1D8-723F-4D2C-800C-D77CA693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DEE7C9-FC6B-4582-8FC1-E1D23D29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2B0845-01F3-445C-9081-AC9E200B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C850AA-07A9-42E2-8514-2AE422E8E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837E80-631E-4C09-8FAD-871CF440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CC66D5-468C-4E10-901B-8789174C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A063-A6BC-468F-87AC-31E2050E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E0D38E-81EE-4EB6-B945-F6DC933B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817928-82A1-4599-A645-FA217A13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4F93DB-184A-48C2-859D-6FA9E889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C70BEF-B5B9-40E8-91A6-789451B9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95FE66-4CAB-464E-8C62-2F436D5E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2D6207-FB2B-4029-84CC-CA01DD4E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D547DB-71CA-44C6-8CCC-A2BE0D69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491D88-9244-4796-BFC3-81990207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DD7DCC-9805-46CE-9E6A-994262EA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9689EE-135F-4E53-AF52-3A89E523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692-AB17-409E-AD7E-CD779DD0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9A0F-66B1-4538-9457-DCECA76F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880BB4-AEA7-499E-B51F-FD9D82B6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0F9037-8F7E-467C-9204-D0CFB5123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650328-D856-4E35-9E14-A4A4FB33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7C1532-ACD2-427C-8898-272DD711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4B7612-6BC2-4F5B-B714-31895EF3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EEBAC8-908E-483C-8151-3CB5EDD9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36E29B-1644-4C21-8614-A94795EA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6ED38D-C334-4E56-92FC-54307167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608CE1-625A-4349-BE55-F9FC85A5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6456A6-954B-428B-AAD7-78BF9C6F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5315-6FE8-4D5D-949D-C3C2FFA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647A09-6983-40B9-BD62-D1AE6789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E5F391A-D16E-4345-90E2-489C0AB2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036B53-8FED-4800-8360-315E3902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1E23E0-2B25-4896-B595-751876623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3127C0-4916-4020-80D4-FE0C7ABD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74362B-842E-4E5A-9A6B-E2A1416C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9CBD76-96BB-4F7C-9971-CB175E81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E9514A-8783-4335-AD83-821A960A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455E92-FE70-4F52-BDFF-657710DF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66A9A5-0F0B-4EE9-9014-99432288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3283C-4B8B-4185-B4CE-290096C03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022CB9-3DAB-49F5-86D1-5AD73542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C0E98B-72B5-4509-B1FB-0A557084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5BD99E-82B5-45A7-B568-19FC00F5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A0AB64-CC28-4B3A-B9BE-25BEDA644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09BB48-6494-46AE-AB9A-F5BD5E85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B2BF5-46DE-4F2A-94A7-B68A4F4D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BAAE6-32EA-40FA-B70E-99E4AEF1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F18AB-CB49-4568-BE1A-2A5BB6C7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2315D-60EF-447B-AA0A-288055BDB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D2C0E-A7EE-4C5B-81AD-04F8DEE0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064FB-E266-427B-BE8F-03CC1D64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BAC2E-84C9-4E49-8CB4-8B1154FF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D63-0268-413F-B196-4A2A1BA0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E45AC-1B44-4D39-BFAB-89384EDB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D3C5C-4A25-4E28-89B6-AB2B9464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42C2C-F272-460B-9363-42F01541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50AF6-EA40-4DFC-806E-FC3F57E3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3F841-A098-4BCA-B6DD-E9981CEC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F50E7-9FBF-464E-9FDE-11539C08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24BA4-5331-40E4-BBFA-4870C470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7B59D-482A-4B05-8F7A-AF547664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4C6D4-CE90-490E-9892-BCC7EE69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1CFF4-A0D7-4E6D-AAB4-5038A103B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7ABC-86E1-4E33-B8E0-4DB14085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F4119-489B-4EA1-ABE0-09F58E76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9255A-0AAF-49D2-A9BB-6704E7A4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EB674-A82B-4E63-A2B9-FD8C84E5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2B650-6738-477F-B15B-3EB8CB58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E6B89-6258-4ED5-85AA-4B7AE8D3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57416-8AC6-4AF6-9799-9918E6EA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2FBFD-3F88-4244-B553-05612E90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4D822-B316-420D-ADAB-64B598FB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86889-1881-4286-9109-1AFA3029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94A5A-ED43-4C2D-B1BA-6703E82B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0B0-2FD4-4CDD-AF20-D595F434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A2561-B5AC-492E-8582-53DE1CD0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16263-CBEE-41F6-9A42-36FFFC5F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B8DE1-A1BD-414E-A04E-D16D0D4B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95920-A7DA-411F-B31C-6E1F54CC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82862-1676-48DE-B7CF-6B2E7390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439E2-1A6A-442A-8C18-47075437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C3F57-0D95-4FD4-A792-99A4AF6E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8DD67-67DB-4F06-AD51-E75B9558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E5E0A-85D6-471F-9129-12E48B97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9982B-A1E7-4B65-B2B2-E4C0C368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0412-44E7-40EC-AC7B-17A07D5D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0E8E8-EBC3-4D40-88B5-947EF7FB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45FF0-8300-4114-BB80-F3BEB369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10686-5FEA-4C47-A031-B4A67122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866D6-61E4-4E34-B313-52044C933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03621-D0DB-4031-B667-EC308939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DF3AF-7EFA-44A3-8322-68E776E5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15D02-441E-4B35-A36D-17495F50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ECBA8-7A0D-4F1B-92FD-D3CAEE55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67142-7949-4DBF-9F84-F5949437D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210B9-DD92-4966-BE84-87290596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E83-4408-4DCC-B1B3-FFC58BE6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13F6A-179E-407C-ADAD-292E8BAE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E6CB5-434D-419B-AEAD-80EAE604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69C7A-D228-459D-9000-AA317800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136D8-FEC7-45A2-A19C-06BC1F57D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3AB14-D2FE-4BE7-8F45-960F6590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8FFC9-2A19-43C9-B19E-9D807143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691CF-9712-4A8F-9CDB-145DB02E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0F7E3-1F0B-440D-AC40-85D5CF11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287DC-2556-468C-A81F-5BFE1B16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9AAD8-A35B-4E54-8B0C-ACC462A0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36CE-DF43-4620-9676-AD1A63A9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79A35-9FB0-4B79-A73E-1013171B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371AC8-9016-4C35-9D25-658966D3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89BFD-7FF8-46D9-A4AE-931AEBBC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A60DE-F52D-4EE2-93C5-9E667B54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86412-3902-466D-A846-E13F3B3C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3221B-705C-41CF-BA4C-62775D63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DF14F-59DE-4D82-B47C-0D13EDCE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957616-6051-42AA-9B3A-37F92804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3543A-6B0E-4D99-834B-08DC5EDB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6AC30-1E7B-4B65-B0A2-DC139044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7243-DE50-4361-BFB7-461ED9FE8A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@@@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07E7-0896-4844-BAD6-E93B41EC0D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BB56-12FE-4261-969F-FDBA381D3A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C7CC-CEE6-49C5-9B16-861B7B41B5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7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8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D43D-F40D-4BFC-86F6-3D036F3998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4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41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4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491F-688C-4065-A28B-FB2252CD5D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925B-4F2B-4552-856D-B90F37B89E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7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7EC8-55D5-4F3C-9676-71950FB56F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9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0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6CAE-F0F5-4417-B442-EAFEFD1FAD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7443-51C9-436A-AE8F-0431E1A72C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6/20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.Kisel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B63E-6E7B-4834-94FA-42732045A8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5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6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5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4FF4-87C0-4B7F-A317-43ADB43F18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8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9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36FD-F977-4207-BE75-C008480107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6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62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6ED4-0137-4C37-86CD-3422600887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5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3C4C3-BDE3-4816-9737-3BCE291116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67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68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6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E3C77-24EE-4BFD-BFFE-0127A5DB49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7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1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7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354E-3C3D-4A21-A52C-1059EF4AAD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7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74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7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67D3-3D85-4E5D-8C4C-66E5565F6A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15f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7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15f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15f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1FE5-3868-47A0-86A4-4F84A8DEB87F}" type="slidenum">
              <a:rPr b="0" lang="ru-RU" sz="1400" spc="-1" strike="noStrike">
                <a:solidFill>
                  <a:srgbClr val="515f7b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515f7b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5933-2AEE-4F19-ADB8-472BCFC21E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@@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738E-CEE0-4036-B8E8-9F86849591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F4E8-CF34-4E8E-8CB6-F19B094B6A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E9F7-8A1D-4E83-8A88-81AACC64AB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8875-F3F8-473D-AA80-7E705D416F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D3CA-F889-4427-B676-4ED5D19AB1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D2EF-855E-4881-BD46-BA10448DD37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sPHENIX calorimeter setup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3" name="Rectangle 3"/>
          <p:cNvSpPr/>
          <p:nvPr/>
        </p:nvSpPr>
        <p:spPr>
          <a:xfrm>
            <a:off x="380880" y="1676520"/>
            <a:ext cx="4953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20x20 mm</a:t>
            </a:r>
            <a:r>
              <a:rPr b="0" lang="en-US" sz="2000" spc="-1" strike="noStrike" baseline="30000">
                <a:solidFill>
                  <a:srgbClr val="515f7b"/>
                </a:solidFill>
                <a:latin typeface="Tahoma"/>
                <a:ea typeface="ＭＳ Ｐゴシック"/>
              </a:rPr>
              <a:t>2 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wedged “towers”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length 100mm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tungsten; epoxy; 1mm diameter fibers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7 fiber layers per tower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20x20 “matrix”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lectrons [1..8] GeV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inclination angles [5..40] degrees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144" name="Picture 7" descr="phenix.png"/>
          <p:cNvPicPr/>
          <p:nvPr/>
        </p:nvPicPr>
        <p:blipFill>
          <a:blip r:embed="rId1"/>
          <a:srcRect l="30000" t="0" r="31876" b="0"/>
          <a:stretch/>
        </p:blipFill>
        <p:spPr>
          <a:xfrm>
            <a:off x="5410080" y="914400"/>
            <a:ext cx="348624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sPHENIX calorimeter resolution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146" name="Picture 6" descr="phenix-de.gif"/>
          <p:cNvPicPr/>
          <p:nvPr/>
        </p:nvPicPr>
        <p:blipFill>
          <a:blip r:embed="rId1"/>
          <a:stretch/>
        </p:blipFill>
        <p:spPr>
          <a:xfrm>
            <a:off x="990720" y="1676520"/>
            <a:ext cx="707688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eSTAR calorimeter resolution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148" name="Picture 6" descr="femc-orig.gif"/>
          <p:cNvPicPr/>
          <p:nvPr/>
        </p:nvPicPr>
        <p:blipFill>
          <a:blip r:embed="rId1"/>
          <a:stretch/>
        </p:blipFill>
        <p:spPr>
          <a:xfrm>
            <a:off x="990720" y="1676520"/>
            <a:ext cx="7076880" cy="4195800"/>
          </a:xfrm>
          <a:prstGeom prst="rect">
            <a:avLst/>
          </a:prstGeom>
          <a:ln w="0">
            <a:noFill/>
          </a:ln>
        </p:spPr>
      </p:pic>
      <p:sp>
        <p:nvSpPr>
          <p:cNvPr id="1149" name="TextBox 10"/>
          <p:cNvSpPr/>
          <p:nvPr/>
        </p:nvSpPr>
        <p:spPr>
          <a:xfrm>
            <a:off x="4307760" y="1066680"/>
            <a:ext cx="48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00"/>
                </a:solidFill>
                <a:uFillTx/>
                <a:latin typeface="Tahoma"/>
              </a:rPr>
              <a:t>3 degree track-to-tower-axis incident angle!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7T15:22:56Z</dcterms:created>
  <dc:creator>Alexander Kiselev</dc:creator>
  <dc:description/>
  <dc:language>en-US</dc:language>
  <cp:lastModifiedBy>Alexander Kiselev</cp:lastModifiedBy>
  <dcterms:modified xsi:type="dcterms:W3CDTF">2013-07-17T15:49:46Z</dcterms:modified>
  <cp:revision>447</cp:revision>
  <dc:subject/>
  <dc:title>BNL interview talk (June 2012)</dc:title>
</cp:coreProperties>
</file>